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C91C3-B47B-430B-BD48-3394B0F20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B468-8F8D-40C9-8DBD-B33B06D64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DF0B-46B1-4DA7-A06C-A34C2266ED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A2A9-B341-47CC-AEA3-07D95A8CC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24D66-8384-4671-8298-E609AE9D3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6919-EDDE-428E-9F42-0AC24E23A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78345-BB7A-47F7-A43E-E7DF1041B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8E1B-7021-491F-93AA-88F8FD9BA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7F3B3-695B-45AF-8E77-6194A2E0A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2E467-671A-442E-BB28-58903C8B2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770F9-9F56-4D39-9F40-0DD67DA63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A2049-355E-4076-A98B-363CC593A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64480" indent="-2170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68680" indent="-17352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16080" indent="-17352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63480" indent="-17352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8576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8580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659D-552E-4369-BA3A-CD017AF166C7}" type="slidenum"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y - definition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7748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branch of biology that developed from natural history is called ecolog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2200" y="3013200"/>
            <a:ext cx="7866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the study of interactions that take place between organisms and their environmen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00" y="914400"/>
            <a:ext cx="45698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What is ecology?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200" y="2286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990720"/>
            <a:ext cx="2057400" cy="9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abitat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s the place where an organism lives out its lif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pond for a beaver; tree for bark insect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4876920" cy="382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abitats can change, and even disappear.  Habitats can change due to both natural and human cause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76520" y="3124080"/>
            <a:ext cx="5790960" cy="278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5843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though several species may share a habitat, the food, shelter, and other essential resources of that habitat are often used in different way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584520"/>
            <a:ext cx="792468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he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the role or position a species has in its environment—how it meets its specific needs for food and shelter, how and where it survives, and where it reproduces in its environment.  Ex:  owls control rodent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opulation at nigh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7175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pecies’ niche, therefore, includes all its interactions with the biotic and abiotic parts of its habita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339408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t is thought that two species can’t exist for long in the same community if their niches are the sam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175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relationship in which there is a close and permanent association between organisms of different species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339408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ymbiosis means living together.  Three kinds of symbiosis are recognized: mutualism, commensalism, and parasitism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676520"/>
            <a:ext cx="2666880" cy="77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ymbiotic relationship in which both species benefit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utual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bacteria in our gu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505320" y="1587600"/>
            <a:ext cx="5181480" cy="34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5680" y="1600200"/>
            <a:ext cx="335304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mmensal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a symbiotic relationship in which one species benefits and the other species is neither harmed nor benefited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lichen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6984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ome interactions are harmful to one species, yet beneficial to another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287964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symbiotic relationship in which a member of one species derives benefit at the expense of another species (the host) is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arasitis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arasites have evolved in such a way that they harm, but usually do not kill the host species.  Ex:  tapeworm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86000" y="3048120"/>
            <a:ext cx="449568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-predator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62252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predator is a type of consumer.  Predators seek out and eat other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981080" y="2768760"/>
            <a:ext cx="5486400" cy="309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2200" y="1905120"/>
            <a:ext cx="78660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st ecologists use both qualitative and quantitative research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41120" y="914400"/>
            <a:ext cx="5392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6880" y="3200400"/>
            <a:ext cx="74804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litative information by observing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-predator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164160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redation is found in all ecosystems and includes organisms that eat plants and animal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22272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animals that predators eat are called pre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1523880"/>
            <a:ext cx="8375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The study of interactions that take place between organisms and their environment is __________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6400" y="4876920"/>
            <a:ext cx="286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i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560" y="4267080"/>
            <a:ext cx="2862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3760" y="3657600"/>
            <a:ext cx="3350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01240" y="3005280"/>
            <a:ext cx="2893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biosis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Ecology is a branch of biology that developed from natural history.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3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8760" y="1698480"/>
            <a:ext cx="8375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ich of the following is a biotic factor?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1720" y="4648320"/>
            <a:ext cx="2375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ight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080" y="3875040"/>
            <a:ext cx="3350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arthworm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1920" y="3124080"/>
            <a:ext cx="2619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oil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5080" y="2441520"/>
            <a:ext cx="310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moisture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Biotic factors are all the living organisms that inhabit an environment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4280" y="8380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4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8760" y="1459080"/>
            <a:ext cx="837576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(n) __________ is a group of organisms, all of the same species, which interbreed and live in the same place at the same time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440" y="5261040"/>
            <a:ext cx="3106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abitat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2760" y="4487760"/>
            <a:ext cx="3594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cosystem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75240" y="3809880"/>
            <a:ext cx="4325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pulation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221040" y="3127320"/>
            <a:ext cx="6276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biological community 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400" y="1219320"/>
            <a:ext cx="8020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The answer is B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 Communities and ecosystems are comprised of more than one species. Habitat refers to the place an organism lives. 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172200" cy="276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676520"/>
            <a:ext cx="3200400" cy="71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ntitative data by making measurements and carrying out controlled experiments in the field and in the laboratory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1120" y="914400"/>
            <a:ext cx="5392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038480" y="1898640"/>
            <a:ext cx="4648320" cy="305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320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nonliving parts of an organism’s environment are the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2200" y="3470400"/>
            <a:ext cx="7866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 of abiotic factors include air currents, temperature, moisture, light, and soil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914400"/>
            <a:ext cx="762012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21747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cology includes the study of features of the environment that are not living because these features are part of an organism’s life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77520" y="914400"/>
            <a:ext cx="978192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377496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biotic factors have obvious effects on living things and often determine which species survive in a particular environment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857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24840" y="914400"/>
            <a:ext cx="106048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living environment: Biotic factor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748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key consideration of ecology is that living organisms affect other living organis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2994120"/>
            <a:ext cx="792468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the living organisms that inhabit an environment are called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plants, animals, fungi, protists,   bacteri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510552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organisms depend on others directly or indirectly for food, shelter, reproduction or protection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tem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747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system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is made up of interacting populations in a biological community and the community’s abiotic factor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3774960"/>
            <a:ext cx="7924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re are two major kinds of ecosystems—terrestrial ecosystems and aquatic ecosystems.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1080" y="914400"/>
            <a:ext cx="26496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xample ecosystems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0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2044800"/>
            <a:ext cx="4724280" cy="36669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812520" y="1981080"/>
            <a:ext cx="4082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Table 2.1 Examples of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46280" y="2311560"/>
            <a:ext cx="1616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Terrestrial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6120" y="2746440"/>
            <a:ext cx="213120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ores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ld farm fiel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Meadow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Yar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Garden plo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mpty lot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Compost heap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Volcano site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Rotting log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51240" y="2222640"/>
            <a:ext cx="12952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tic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00480" y="2743200"/>
            <a:ext cx="1333440" cy="34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reshwater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Pond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Lake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tream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alt water (marine)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cean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rium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92520" y="2252520"/>
            <a:ext cx="1768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ther Sites for Ecosystems</a:t>
            </a:r>
            <a:endParaRPr b="0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18080" y="2736720"/>
            <a:ext cx="1768320" cy="35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Human body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Skin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Intestine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uth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uilding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ld in walls, floors, or basement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Ventilation system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athrooms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Food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Any moldy food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Refrigerator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730600"/>
            <a:ext cx="1676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2273400"/>
            <a:ext cx="167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86000"/>
            <a:ext cx="1676160" cy="3429000"/>
          </a:xfrm>
          <a:prstGeom prst="rect">
            <a:avLst/>
          </a:prstGeom>
          <a:noFill/>
          <a:ln w="76320">
            <a:solidFill>
              <a:srgbClr val="e3f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24:35Z</dcterms:created>
  <dc:creator>Clayton Johns</dc:creator>
  <dc:description/>
  <dc:language>en-US</dc:language>
  <cp:lastModifiedBy>Clayton Johns</cp:lastModifiedBy>
  <dcterms:modified xsi:type="dcterms:W3CDTF">2008-10-06T17:54:58Z</dcterms:modified>
  <cp:revision>3</cp:revision>
  <dc:subject>Chapter 2</dc:subject>
  <dc:title>Ecoloy - definition</dc:title>
</cp:coreProperties>
</file>